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3162-943D-430B-B3C1-D5D990064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A160-FC3F-4736-BDD2-68A0BD37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B8FE35-988D-473F-A2E6-3AF13233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C922BF-7D99-4BB6-97E7-EA147F0A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86630-132E-402D-A059-4602F47D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A43EE7-0352-4532-BDB9-A24954FA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ECC56F-0AE3-4AA9-9C08-E198636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569EB-3FAC-4776-AC1C-FC38D8E0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C0D12-789F-4562-A4D6-E6384D26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29918-7012-4A6F-892C-49CCE3D2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B7EEE-4180-41C5-81A6-E11FA2C5E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84DE9-D558-4C3E-BE5A-ADF06E889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6BB8-AD2E-424D-BB3C-CDA85E4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2343C-CE28-4DB6-95B0-46B0261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72A53-AE3A-463B-9479-7974CE54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7DF15-814B-4990-B42C-5341ECC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85B58-52C3-428B-AFE7-4107B93F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0FAA-1400-42E2-9B0A-903B2EC9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8203-2683-43C3-B336-BEB092D0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11051-48CB-47BA-8C98-21339A27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70FA-4A11-4D3D-8F7B-FF974D07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7E77F-7B7C-48E2-92B8-D0BCFD3E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C6D8A-207F-4136-ABA1-4B72BC4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A88C-9E5D-4B4C-9B7D-FA33CCF453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27FA-82E3-4643-8232-2789D48BD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BB7D4-F79A-4BDE-98C8-F273072293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875F33-F988-4399-8EB4-8E95E109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CF88F8-DDAA-4793-8797-773EA398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F3C069-EC5D-4BA3-AB23-C176FA6C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D1175-06AA-4469-ABD5-A7D7B831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9F3F66-5D31-4567-A276-69963A27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402A89-F0C6-4FD8-9FDA-835C69A0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5C82D-F99B-4F77-8607-7EC8476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8139B-CECD-4417-9B1C-43173C1E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2CFAC-46ED-4586-B838-12DBB8B4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C8F2D-A1C0-4EDF-A803-DBE04670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9B1DA-8B81-4405-B6EF-B6AB094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09B54-699C-4819-B8E5-C98004C87B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6DFAF-D402-470A-84CD-983DC2FB0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0ED23-432A-47AC-B2D0-C8D0D365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0E42F-854E-40CB-B568-F5A6D47C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F0309-0D91-49DF-B80E-B3F21B8B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1F471-9C93-46C5-AEF5-773ADF21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B311E-2A15-4983-BD8F-3BB507F4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2D0A0-260A-4FD0-B24A-A47552BE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DA2A6-7B13-4F0C-A2B4-13DC3008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C0139-58BE-41E6-B0BF-64FC042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EA038-6B26-4F5A-A06B-72152D97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C1854-7044-413D-AB89-D83C74FC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4813D-BDC5-497B-B33B-C92BB3C4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F8335-0567-41BB-BE8D-D642EAF17F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A8D35-4D70-44E6-BA60-CA41714DD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B8492-327C-4CAA-937E-27FDE3D7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A8E0B-3EDF-4F77-AF40-3C6ABB7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05B39-BC9E-4242-97D7-90AA958D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66948-F963-4C58-8568-3FEB576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8DED0-BD06-40A7-B3BB-471401FF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E7316-FD7A-4E99-A10A-DAB1AA4C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579BD-CA0D-49F2-B1CF-2FD59596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7A7AF-7AE6-4974-9233-DDDDA99A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2F3F5-006D-47DB-8A7F-B34708B1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79E43-1758-4658-8EDF-4B673044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67309-B24D-4489-B31D-1B0F291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11782-158B-4D1A-9FE1-CE10E6BE3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54AE4-60E1-4E5A-BDB5-9560BEB0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4720A-4111-40FF-A043-0F82D9EA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0B367-4C63-413C-8BA4-13609BC2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1CEDE-AB70-4031-AF7B-0EF7A56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DF15C-624C-45ED-B472-17E1B3F0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AE77D-44C1-47B7-8884-0C0DCD3A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D76FE-8944-4EFD-94D8-12373B23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D0439-87D5-4606-87D0-DA4E130A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3E113-18A3-4D3C-AD36-ED886DD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A52B7-AA25-4263-9ADD-468A2E6A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01B0A-C14D-49AD-A8D4-76069F0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3C85B-295E-4DD7-9688-0D6ABD46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13136-2042-455F-BD6A-FF886602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778AD-22A1-4CD2-B4BF-B9EE6E47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1041D-633F-41FB-BBB1-B9D92BDF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DACC4-0B2E-4509-B279-DEBD2014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5F53C-B32D-44FD-ABCB-AC221D90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9CC43-722E-471A-9310-074A95A7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0A47A-0C46-4F1E-8358-4963953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04DED-1FC9-4BDC-827F-3286C67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EEF10-559A-4E1A-820A-0D0487E4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F5537-353A-435E-BC0A-57821DFD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A8379-DB1D-4E10-B00A-09AC246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AA6FF-0F73-468F-A7E3-B902F9CA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DF20F-2935-4763-A880-DC65B062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E0F3F-3080-417C-80C9-025E7033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C5103-30FB-40EB-89FC-315FBB85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7C6F0-FC09-44C7-83A0-5CB1E86E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94ADD-246B-41D9-BBC8-0F80FBBB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F141D-751A-4D9A-AD2D-A65DEC72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91809-84D1-4D49-A55C-4D0563E1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C1ACC-6CED-4C5F-A42B-226C5370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F7A2D-CBDF-4FF8-BEE9-7BBB836F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D2F5F-82A5-4CD2-A508-5751D2F8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A60E5-A8D1-406B-A803-CE34A09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90FE8-8E5F-4885-8B98-783294AC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B808B-7196-48C3-8C71-4E08CAA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83332-6FC9-4746-9691-813BB3F7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6093C-8259-4114-BB34-05274FFF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910F1-DC7B-4FC5-88D7-46808546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E6E1A-14C9-4305-A0CF-92136A35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42EC2-BE2D-408C-8F66-EFDC2519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53CCE-5FC1-44BC-A987-AC59B3FD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8BD40-5C42-4500-BADB-9B0A58F8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F2ECD-F059-4C99-8130-9C52142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4CD65-85C0-4162-B536-C1270CD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E9D49-6155-476D-B868-BD85907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4340-F12B-4E8C-84E9-1681F1B0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E3A6D-564C-47ED-93FA-9B8EA15A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496F0-1E61-439B-ADA2-E0CE694E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23FA1-7904-440C-96BD-DF5EC40D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7DCC4-4797-4046-B9BE-242A847C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6E990-AD47-4057-B34E-6EBBD667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DCC72-6E4A-4F3C-907A-EDF2702D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77DED-CE6C-4948-9B72-7586FB5A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D8A20-908B-494D-88C0-32B380BF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0EF9E-43BE-4A7F-B491-2BF6C51D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D401B-1AA4-4196-94C1-ADC8E217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5779D-01D4-4AC7-B816-4A0D3AF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FC2FC-6132-40D0-9A8C-11E70180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62D6F-6425-468B-B230-6C9C54B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F612B-DBC7-422D-A246-FAF730F8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0EBEC-A0DC-4E79-9CDE-06CEBA8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74E70-B90B-46DB-9ADF-10FF6036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F74F9-7912-477D-85AF-8F681176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B0A90-6A25-4588-9B7A-167E77E5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8D234-FBF8-469E-9057-5B68EEFC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10A57-2E01-44F1-8185-240B6331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E7B12-28BC-4955-9C6F-9C473EE6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D9538-B3A6-4BD1-A971-C39A9358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4B6AF-C35B-40A5-8234-E7233505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40CFF-5803-4782-A96B-68D10BB6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C2EE3-995B-460E-AAC2-8B45AC25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4243A-EA30-4020-81D0-1CCB504C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4FF2B-5804-45D3-B381-EB6377DB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1C61E-885B-4E75-9B42-3D96CFE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90FDF-2152-46DB-A9E1-F309FBC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1D4B6-6939-4A03-B4A8-8A0909C4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637C0-483A-4D5A-B5C7-F2D7CC8B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6029C-29FC-4557-A2A7-FC2B3B3A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B609D-8E68-4D88-AA89-E40D3120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DB82B-BBA8-4B48-B49D-6A9FA6F2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0311B-755F-4A8A-B1D6-796090E5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1B980-F053-499B-95CF-0FA8E25B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0DDCD-C1A4-4344-AD23-55F1F841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4F36F-C30C-415C-91AA-982F9675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8BDBA-1C5B-4B9A-B103-84266400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BF55D-2BDD-4FF0-9047-8C118D9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091BE-924F-425C-B6CA-460C3C35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390C1-F6DA-433B-A687-D450BC04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55A95-5932-4FDA-AB93-FD295BA1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782C0-583B-4905-8918-5C27A9ED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1B16B-7DF3-44AD-92D6-765AB25C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F0783-D3C1-48D9-95D1-E2D68544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04F1A-DBE1-417A-A1C7-1C2E0CCC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F09F8-44B4-47A6-BFC1-BEC2E768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D6A03-A4CD-42EE-841B-52AA9B64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CA13E-5A2C-4623-BF87-5A0DC736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EB2D7-AB46-4AB6-A393-F1F5ED4D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BE2AE-8C8D-4249-8104-2250B5A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ED385-B02E-4E58-9C47-77DBB4B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99B8A-24F4-45E7-94B2-5863832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6A458-A80A-4383-9BDB-133E7328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FB3B3-8FDD-4B0D-81FE-891AAD3D7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1669C-5BB8-49A0-8103-E04E5E0C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F2F69-A2DA-4158-80F4-5DA11A57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42C01-7071-4887-8CD8-853A9539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8DD89-4EA1-47AF-ADB5-135D9016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1E3AE-EA6D-4499-982F-F57E90C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BDB20-24F5-416A-9E81-88807249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15D37C-CB59-4171-A068-323B2147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1B1A7-52D1-4BE6-BB05-404EF31A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6419A-CAB7-4291-A6FC-389F0C89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125D6-90AF-441F-B77F-928764A0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AC47F-C288-4BF6-B7F7-E83AD031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BD38A-9400-461A-971B-2499A72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88BF8-4512-4B48-9DAC-B4766C4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4F2233-080A-4949-A75D-5280B80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32550-5229-48EB-9531-6586123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97309C-F89D-4CF9-A323-853A1EF6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7CCC8E-1EB6-48FF-B36F-01957C2A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C295C-EBD6-46DD-95B8-CA8272A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7EEF5-2833-468B-BE31-748A7515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16A0F-3764-48E4-8E66-1471FB57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73C3F-7577-40E2-A6E7-FB4D91F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762CA-4EDC-42A3-A436-50349C66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B51CF-AF3A-4AAC-96EB-82C97301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2B911-0AF3-4CBD-A17D-98BB0F1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07FB2-C26A-4E3D-AF8C-EE81BBD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E862B-DE60-4EC0-80A8-4E8908E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1D099-A6EA-466D-9BD1-1D4071C1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1AD18-3534-41A7-BF28-69EB2FCD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B1F1E-AF80-45AF-890D-5E6E1288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0F302-DD88-411A-AE49-4998465B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20706F-6D58-4ACE-98D5-A7C129D4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7D742-F36D-476D-A12D-C72CBF3F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463EA-9491-4985-B608-091DB5D5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0DC38-F432-4B67-9DCB-2D006953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70E5C-5A6A-4330-B961-74F0E9C6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C1BB2-2612-4B00-921E-4CAFE76D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55ABA-C77E-4FD0-A11B-AFAA12E3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FB126-11A0-4981-BD48-DD30C2C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3B7E7-D477-4432-A9AE-25CC0EF6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29DED-BA55-4912-A549-700F1233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6C441-CF5D-402F-9FB8-4FB663FF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6DF37-B182-4DDA-BCDE-49BACF9B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8B13D-9DBD-4DD4-8D8E-1716EC53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1FF2-09AC-491D-B75D-D50DBFFD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B919D3-E02A-4C4B-B00D-A6440797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6DEAA-5526-4D70-BA7A-EDE1FD02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57C72-7C88-4867-A8C9-09D7799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96532-9DF5-4999-BC11-D89EE8D2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F54CB-72C7-45D5-A300-C4E7BF87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8C7C7-8B58-47AF-B934-15ED97A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46FDA-AEEB-439C-B6CA-B05C66E73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464F-ACB0-42CB-A585-2E2C30AED4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C8ED-C1AB-4730-B73A-06F4F4D7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7D94-C4CD-4977-B08D-550207B5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D8D9-E993-43D8-85E5-D64D35EA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BFC6-9BAA-4DD8-9CA4-0DE391A4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D720-296D-4A5E-B686-124F3623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E929-BD46-4A19-A445-7FE4BD25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F765-881D-40EF-8334-A3AE5F85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E5DD-9FB9-4B7E-BC6E-4FD42AD4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FC918-47D6-4150-8F2A-6EA23923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0179-DB14-4C40-A482-A6980585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06B4-583D-473E-8FC8-2B9D3CC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6EC4-9F92-435D-B553-7A007A95A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CD2C4-1F5B-4E4D-B2CB-C5BA8EFCB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C072-40EA-48F7-B1A6-87059504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98A5F-4256-4F92-877A-C24EBCD5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3F937-250B-4E49-BBDD-24F8A917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B602E-3D54-432E-A96A-3C6DEC4C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BB0CC-DDB4-4A8A-9E72-B9D4E106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FF0FF-0A38-4DB4-8CEF-63CB3025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BF2E65-9A49-4C56-9BF3-259244C1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80C51-42F3-4E01-A388-720C7AC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FA642-05BB-4F22-98AE-0C9AB07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092B0-AAD9-4AD0-86B5-6A9198DC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A1715-5683-4EFF-8099-B997AC2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4AAF-8A4B-4FCB-929F-4D008B11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78F29-AD45-409F-8160-A007DABB4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480907-AADD-4394-BAF7-9E4063A149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AEB29D-51CE-4C3D-95E4-08EDD39C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940BA-7B37-489E-8DAB-AE139220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9853B-544C-4D1A-A363-1DB9E1E9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D2259-DE1B-4EEA-ACFB-B8948B2C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9F858D-D733-447A-8913-DB717283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990E2B-600F-4352-A5EB-36FE4CB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CEE523-89A0-4E8A-973B-A8784F80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8FE512-351B-40B2-B352-7DB11853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958C-0620-4196-A9F4-F86006B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D277E5-0D17-4D3D-A158-1EBE2E41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20BDDB-9A3D-4194-BE03-C38DF1C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6AEAF0-4B07-45BD-9B9C-95AD0791A3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9BA5A-7EFF-4591-856B-1C015BDF93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6FD6-A104-4026-B023-3D43355B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CD87-71D8-4998-B513-7DA45CDA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F047A-64B8-4DAE-A6EA-A8AB4B05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7059-AF47-42D0-9581-B81E5A7C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CA4A7-CDC2-411B-BCB7-B11D942B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53D0B-31C4-4701-9A6F-29CD43CF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3DED-3AC9-454A-BBD0-C77D277C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75DD-354B-4F5B-91E0-5042CDD0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C7E2A-5C27-440D-9B62-19A8F840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145B-4344-4F84-8C51-681412D6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442D1-50CA-4A17-A5F0-A5C01EB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D84A-BFDD-45DF-BBCF-02DB25172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C0972-C0F0-4F65-A8CF-9571BFAEDD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989BB-7452-4667-BDF4-CCE70946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43785-3043-41CE-A753-6E03FC3E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20FE5-51BE-403D-8F16-98F1DBCB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3E54B-55C7-4BEF-B0B8-7BA4A39A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598A-E0E9-4BF8-9008-2E424ABE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3B3EF-218E-41F5-8B51-BBFECB0F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C10C5-0109-491E-9C4C-065FDECA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15DF3-83A0-41AB-89F2-6F7F0C93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3E5F1-9685-4A73-B0F3-13A3EC80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2BB16-F4BD-42F7-BACF-CF98AC73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1A20F-FEA9-4558-8837-29F120F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596D29-2BB1-4C8A-80E7-3E34678936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3D585D-88BB-409F-ABC6-D88CDE6101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8226E2-1A11-4F1E-A344-7FE36DF3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09AFC-3F70-45DF-901D-82C3B07F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3FF8-F6E5-414E-9B25-314342B5D6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1C1B-B37D-4A94-A82D-D5BFC0D4F2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F7BD-266D-462F-A6DE-7B4A00A29A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8307-B184-4D86-A011-A3ACCE92A4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F551-47FF-44FB-8944-A8189AA472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AF5A-7B05-4CA1-8F58-86F6B67742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0FEB-B179-4A7F-A1FB-6DCAFC9202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C2A-1050-45AA-9EDE-A751098B88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E52E-95CA-48AA-B763-E82480E523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7493-0522-42F0-9CEB-BD8A26D57C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82CB-58DA-4147-A774-5BC8ED5D39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37B7-5EED-4B6A-AB91-050DF8377EF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812B-BB96-4B1E-A216-069FC71901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AF03-75CC-467F-ABD9-9F02060901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A414-BFFC-4F4C-8440-50F22EE547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2980-0ADD-4F82-B5FE-3203448B10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3FF9-CF2F-40EF-AD65-5F9B4ECCCD7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DE78-FB08-43BC-BA04-BEA93A679F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0F3E-C864-4C1B-AB2C-E59CD36B57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08E-8524-447E-A115-987A52A442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F9A9-EC0B-4D80-9022-3D647B5B4F0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22D8-4A05-4B4D-9F54-1F1C99E7B4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E299-1A3B-467F-A1F0-953729A161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0A3D-1543-4869-9C7F-26B25926EF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034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6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72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7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1047600" y="69840"/>
            <a:ext cx="168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一、复习引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992160" y="1143000"/>
            <a:ext cx="67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5"/>
          <p:cNvGrpSpPr/>
          <p:nvPr/>
        </p:nvGrpSpPr>
        <p:grpSpPr>
          <a:xfrm>
            <a:off x="968400" y="1785960"/>
            <a:ext cx="1531800" cy="571320"/>
            <a:chOff x="968400" y="1785960"/>
            <a:chExt cx="1531800" cy="571320"/>
          </a:xfrm>
        </p:grpSpPr>
        <p:sp>
          <p:nvSpPr>
            <p:cNvPr id="1012" name="矩形 3"/>
            <p:cNvSpPr/>
            <p:nvPr/>
          </p:nvSpPr>
          <p:spPr>
            <a:xfrm>
              <a:off x="968400" y="17859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2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4"/>
            <p:cNvSpPr/>
            <p:nvPr/>
          </p:nvSpPr>
          <p:spPr>
            <a:xfrm>
              <a:off x="1928880" y="17859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Rectangle 51"/>
          <p:cNvSpPr/>
          <p:nvPr/>
        </p:nvSpPr>
        <p:spPr>
          <a:xfrm>
            <a:off x="1928880" y="1785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7"/>
          <p:cNvGrpSpPr/>
          <p:nvPr/>
        </p:nvGrpSpPr>
        <p:grpSpPr>
          <a:xfrm>
            <a:off x="2968920" y="1785960"/>
            <a:ext cx="1531440" cy="571320"/>
            <a:chOff x="2968920" y="1785960"/>
            <a:chExt cx="1531440" cy="571320"/>
          </a:xfrm>
        </p:grpSpPr>
        <p:sp>
          <p:nvSpPr>
            <p:cNvPr id="1016" name="矩形 8"/>
            <p:cNvSpPr/>
            <p:nvPr/>
          </p:nvSpPr>
          <p:spPr>
            <a:xfrm>
              <a:off x="2968920" y="17859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×3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9"/>
            <p:cNvSpPr/>
            <p:nvPr/>
          </p:nvSpPr>
          <p:spPr>
            <a:xfrm>
              <a:off x="3929040" y="17859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10"/>
          <p:cNvGrpSpPr/>
          <p:nvPr/>
        </p:nvGrpSpPr>
        <p:grpSpPr>
          <a:xfrm>
            <a:off x="4969080" y="1785960"/>
            <a:ext cx="1531440" cy="571320"/>
            <a:chOff x="4969080" y="1785960"/>
            <a:chExt cx="1531440" cy="571320"/>
          </a:xfrm>
        </p:grpSpPr>
        <p:sp>
          <p:nvSpPr>
            <p:cNvPr id="1019" name="矩形 11"/>
            <p:cNvSpPr/>
            <p:nvPr/>
          </p:nvSpPr>
          <p:spPr>
            <a:xfrm>
              <a:off x="4969080" y="17859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6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2"/>
            <p:cNvSpPr/>
            <p:nvPr/>
          </p:nvSpPr>
          <p:spPr>
            <a:xfrm>
              <a:off x="5929200" y="17859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13"/>
          <p:cNvGrpSpPr/>
          <p:nvPr/>
        </p:nvGrpSpPr>
        <p:grpSpPr>
          <a:xfrm>
            <a:off x="7040880" y="1785960"/>
            <a:ext cx="1531440" cy="571320"/>
            <a:chOff x="7040880" y="1785960"/>
            <a:chExt cx="1531440" cy="571320"/>
          </a:xfrm>
        </p:grpSpPr>
        <p:sp>
          <p:nvSpPr>
            <p:cNvPr id="1022" name="矩形 14"/>
            <p:cNvSpPr/>
            <p:nvPr/>
          </p:nvSpPr>
          <p:spPr>
            <a:xfrm>
              <a:off x="7040880" y="17859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15"/>
            <p:cNvSpPr/>
            <p:nvPr/>
          </p:nvSpPr>
          <p:spPr>
            <a:xfrm>
              <a:off x="8001000" y="17859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16"/>
          <p:cNvGrpSpPr/>
          <p:nvPr/>
        </p:nvGrpSpPr>
        <p:grpSpPr>
          <a:xfrm>
            <a:off x="968400" y="2714760"/>
            <a:ext cx="1531800" cy="571320"/>
            <a:chOff x="968400" y="2714760"/>
            <a:chExt cx="1531800" cy="571320"/>
          </a:xfrm>
        </p:grpSpPr>
        <p:sp>
          <p:nvSpPr>
            <p:cNvPr id="1025" name="矩形 17"/>
            <p:cNvSpPr/>
            <p:nvPr/>
          </p:nvSpPr>
          <p:spPr>
            <a:xfrm>
              <a:off x="968400" y="27147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7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矩形 18"/>
            <p:cNvSpPr/>
            <p:nvPr/>
          </p:nvSpPr>
          <p:spPr>
            <a:xfrm>
              <a:off x="1928880" y="27147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19"/>
          <p:cNvGrpSpPr/>
          <p:nvPr/>
        </p:nvGrpSpPr>
        <p:grpSpPr>
          <a:xfrm>
            <a:off x="2968920" y="2714760"/>
            <a:ext cx="1531440" cy="571320"/>
            <a:chOff x="2968920" y="2714760"/>
            <a:chExt cx="1531440" cy="571320"/>
          </a:xfrm>
        </p:grpSpPr>
        <p:sp>
          <p:nvSpPr>
            <p:cNvPr id="1028" name="矩形 20"/>
            <p:cNvSpPr/>
            <p:nvPr/>
          </p:nvSpPr>
          <p:spPr>
            <a:xfrm>
              <a:off x="2968920" y="27147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6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21"/>
            <p:cNvSpPr/>
            <p:nvPr/>
          </p:nvSpPr>
          <p:spPr>
            <a:xfrm>
              <a:off x="3929040" y="27147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22"/>
          <p:cNvGrpSpPr/>
          <p:nvPr/>
        </p:nvGrpSpPr>
        <p:grpSpPr>
          <a:xfrm>
            <a:off x="4969080" y="2714760"/>
            <a:ext cx="1531440" cy="571320"/>
            <a:chOff x="4969080" y="2714760"/>
            <a:chExt cx="1531440" cy="571320"/>
          </a:xfrm>
        </p:grpSpPr>
        <p:sp>
          <p:nvSpPr>
            <p:cNvPr id="1031" name="矩形 23"/>
            <p:cNvSpPr/>
            <p:nvPr/>
          </p:nvSpPr>
          <p:spPr>
            <a:xfrm>
              <a:off x="4969080" y="27147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×7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24"/>
            <p:cNvSpPr/>
            <p:nvPr/>
          </p:nvSpPr>
          <p:spPr>
            <a:xfrm>
              <a:off x="5929200" y="27147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25"/>
          <p:cNvGrpSpPr/>
          <p:nvPr/>
        </p:nvGrpSpPr>
        <p:grpSpPr>
          <a:xfrm>
            <a:off x="7040880" y="2714760"/>
            <a:ext cx="1531440" cy="571320"/>
            <a:chOff x="7040880" y="2714760"/>
            <a:chExt cx="1531440" cy="571320"/>
          </a:xfrm>
        </p:grpSpPr>
        <p:sp>
          <p:nvSpPr>
            <p:cNvPr id="1034" name="矩形 26"/>
            <p:cNvSpPr/>
            <p:nvPr/>
          </p:nvSpPr>
          <p:spPr>
            <a:xfrm>
              <a:off x="7040880" y="27147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7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27"/>
            <p:cNvSpPr/>
            <p:nvPr/>
          </p:nvSpPr>
          <p:spPr>
            <a:xfrm>
              <a:off x="8001000" y="27147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28"/>
          <p:cNvGrpSpPr/>
          <p:nvPr/>
        </p:nvGrpSpPr>
        <p:grpSpPr>
          <a:xfrm>
            <a:off x="968400" y="3571920"/>
            <a:ext cx="1531800" cy="571320"/>
            <a:chOff x="968400" y="3571920"/>
            <a:chExt cx="1531800" cy="571320"/>
          </a:xfrm>
        </p:grpSpPr>
        <p:sp>
          <p:nvSpPr>
            <p:cNvPr id="1037" name="矩形 29"/>
            <p:cNvSpPr/>
            <p:nvPr/>
          </p:nvSpPr>
          <p:spPr>
            <a:xfrm>
              <a:off x="968400" y="35719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30"/>
            <p:cNvSpPr/>
            <p:nvPr/>
          </p:nvSpPr>
          <p:spPr>
            <a:xfrm>
              <a:off x="1928880" y="35719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1"/>
          <p:cNvGrpSpPr/>
          <p:nvPr/>
        </p:nvGrpSpPr>
        <p:grpSpPr>
          <a:xfrm>
            <a:off x="2968920" y="3571920"/>
            <a:ext cx="1531440" cy="571320"/>
            <a:chOff x="2968920" y="3571920"/>
            <a:chExt cx="1531440" cy="571320"/>
          </a:xfrm>
        </p:grpSpPr>
        <p:sp>
          <p:nvSpPr>
            <p:cNvPr id="1040" name="矩形 32"/>
            <p:cNvSpPr/>
            <p:nvPr/>
          </p:nvSpPr>
          <p:spPr>
            <a:xfrm>
              <a:off x="2968920" y="35719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3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矩形 33"/>
            <p:cNvSpPr/>
            <p:nvPr/>
          </p:nvSpPr>
          <p:spPr>
            <a:xfrm>
              <a:off x="3929040" y="35719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4"/>
          <p:cNvGrpSpPr/>
          <p:nvPr/>
        </p:nvGrpSpPr>
        <p:grpSpPr>
          <a:xfrm>
            <a:off x="4969080" y="3571920"/>
            <a:ext cx="1531440" cy="571320"/>
            <a:chOff x="4969080" y="3571920"/>
            <a:chExt cx="1531440" cy="571320"/>
          </a:xfrm>
        </p:grpSpPr>
        <p:sp>
          <p:nvSpPr>
            <p:cNvPr id="1043" name="矩形 35"/>
            <p:cNvSpPr/>
            <p:nvPr/>
          </p:nvSpPr>
          <p:spPr>
            <a:xfrm>
              <a:off x="4969080" y="35719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矩形 36"/>
            <p:cNvSpPr/>
            <p:nvPr/>
          </p:nvSpPr>
          <p:spPr>
            <a:xfrm>
              <a:off x="5929200" y="35719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组合 37"/>
          <p:cNvGrpSpPr/>
          <p:nvPr/>
        </p:nvGrpSpPr>
        <p:grpSpPr>
          <a:xfrm>
            <a:off x="7040880" y="3571920"/>
            <a:ext cx="1531440" cy="571320"/>
            <a:chOff x="7040880" y="3571920"/>
            <a:chExt cx="1531440" cy="571320"/>
          </a:xfrm>
        </p:grpSpPr>
        <p:sp>
          <p:nvSpPr>
            <p:cNvPr id="1046" name="矩形 38"/>
            <p:cNvSpPr/>
            <p:nvPr/>
          </p:nvSpPr>
          <p:spPr>
            <a:xfrm>
              <a:off x="7040880" y="35719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5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39"/>
            <p:cNvSpPr/>
            <p:nvPr/>
          </p:nvSpPr>
          <p:spPr>
            <a:xfrm>
              <a:off x="8001000" y="35719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组合 40"/>
          <p:cNvGrpSpPr/>
          <p:nvPr/>
        </p:nvGrpSpPr>
        <p:grpSpPr>
          <a:xfrm>
            <a:off x="968400" y="4500720"/>
            <a:ext cx="1531800" cy="571320"/>
            <a:chOff x="968400" y="4500720"/>
            <a:chExt cx="1531800" cy="571320"/>
          </a:xfrm>
        </p:grpSpPr>
        <p:sp>
          <p:nvSpPr>
            <p:cNvPr id="1049" name="矩形 41"/>
            <p:cNvSpPr/>
            <p:nvPr/>
          </p:nvSpPr>
          <p:spPr>
            <a:xfrm>
              <a:off x="968400" y="45007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×6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42"/>
            <p:cNvSpPr/>
            <p:nvPr/>
          </p:nvSpPr>
          <p:spPr>
            <a:xfrm>
              <a:off x="1928880" y="45007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组合 43"/>
          <p:cNvGrpSpPr/>
          <p:nvPr/>
        </p:nvGrpSpPr>
        <p:grpSpPr>
          <a:xfrm>
            <a:off x="2968920" y="4500720"/>
            <a:ext cx="1531440" cy="571320"/>
            <a:chOff x="2968920" y="4500720"/>
            <a:chExt cx="1531440" cy="571320"/>
          </a:xfrm>
        </p:grpSpPr>
        <p:sp>
          <p:nvSpPr>
            <p:cNvPr id="1052" name="矩形 44"/>
            <p:cNvSpPr/>
            <p:nvPr/>
          </p:nvSpPr>
          <p:spPr>
            <a:xfrm>
              <a:off x="2968920" y="45007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矩形 45"/>
            <p:cNvSpPr/>
            <p:nvPr/>
          </p:nvSpPr>
          <p:spPr>
            <a:xfrm>
              <a:off x="3929040" y="45007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46"/>
          <p:cNvGrpSpPr/>
          <p:nvPr/>
        </p:nvGrpSpPr>
        <p:grpSpPr>
          <a:xfrm>
            <a:off x="4969080" y="4500720"/>
            <a:ext cx="1531440" cy="571320"/>
            <a:chOff x="4969080" y="4500720"/>
            <a:chExt cx="1531440" cy="571320"/>
          </a:xfrm>
        </p:grpSpPr>
        <p:sp>
          <p:nvSpPr>
            <p:cNvPr id="1055" name="矩形 47"/>
            <p:cNvSpPr/>
            <p:nvPr/>
          </p:nvSpPr>
          <p:spPr>
            <a:xfrm>
              <a:off x="4969080" y="45007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48"/>
            <p:cNvSpPr/>
            <p:nvPr/>
          </p:nvSpPr>
          <p:spPr>
            <a:xfrm>
              <a:off x="5929200" y="45007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49"/>
          <p:cNvGrpSpPr/>
          <p:nvPr/>
        </p:nvGrpSpPr>
        <p:grpSpPr>
          <a:xfrm>
            <a:off x="7040880" y="4500720"/>
            <a:ext cx="1531440" cy="571320"/>
            <a:chOff x="7040880" y="4500720"/>
            <a:chExt cx="1531440" cy="571320"/>
          </a:xfrm>
        </p:grpSpPr>
        <p:sp>
          <p:nvSpPr>
            <p:cNvPr id="1058" name="矩形 50"/>
            <p:cNvSpPr/>
            <p:nvPr/>
          </p:nvSpPr>
          <p:spPr>
            <a:xfrm>
              <a:off x="7040880" y="45007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4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51"/>
            <p:cNvSpPr/>
            <p:nvPr/>
          </p:nvSpPr>
          <p:spPr>
            <a:xfrm>
              <a:off x="8001000" y="45007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Rectangle 51"/>
          <p:cNvSpPr/>
          <p:nvPr/>
        </p:nvSpPr>
        <p:spPr>
          <a:xfrm>
            <a:off x="4000680" y="1785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1"/>
          <p:cNvSpPr/>
          <p:nvPr/>
        </p:nvSpPr>
        <p:spPr>
          <a:xfrm>
            <a:off x="5929200" y="17859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1"/>
          <p:cNvSpPr/>
          <p:nvPr/>
        </p:nvSpPr>
        <p:spPr>
          <a:xfrm>
            <a:off x="8001000" y="17859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1"/>
          <p:cNvSpPr/>
          <p:nvPr/>
        </p:nvSpPr>
        <p:spPr>
          <a:xfrm>
            <a:off x="1928880" y="27147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51"/>
          <p:cNvSpPr/>
          <p:nvPr/>
        </p:nvSpPr>
        <p:spPr>
          <a:xfrm>
            <a:off x="4000680" y="27147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1"/>
          <p:cNvSpPr/>
          <p:nvPr/>
        </p:nvSpPr>
        <p:spPr>
          <a:xfrm>
            <a:off x="5929200" y="27147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51"/>
          <p:cNvSpPr/>
          <p:nvPr/>
        </p:nvSpPr>
        <p:spPr>
          <a:xfrm>
            <a:off x="8001000" y="27147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1"/>
          <p:cNvSpPr/>
          <p:nvPr/>
        </p:nvSpPr>
        <p:spPr>
          <a:xfrm>
            <a:off x="1928880" y="35719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51"/>
          <p:cNvSpPr/>
          <p:nvPr/>
        </p:nvSpPr>
        <p:spPr>
          <a:xfrm>
            <a:off x="4000680" y="35719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51"/>
          <p:cNvSpPr/>
          <p:nvPr/>
        </p:nvSpPr>
        <p:spPr>
          <a:xfrm>
            <a:off x="5929200" y="35719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51"/>
          <p:cNvSpPr/>
          <p:nvPr/>
        </p:nvSpPr>
        <p:spPr>
          <a:xfrm>
            <a:off x="8001000" y="35719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51"/>
          <p:cNvSpPr/>
          <p:nvPr/>
        </p:nvSpPr>
        <p:spPr>
          <a:xfrm>
            <a:off x="1928880" y="45007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51"/>
          <p:cNvSpPr/>
          <p:nvPr/>
        </p:nvSpPr>
        <p:spPr>
          <a:xfrm>
            <a:off x="4000680" y="45007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51"/>
          <p:cNvSpPr/>
          <p:nvPr/>
        </p:nvSpPr>
        <p:spPr>
          <a:xfrm>
            <a:off x="5929200" y="45007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1"/>
          <p:cNvSpPr/>
          <p:nvPr/>
        </p:nvSpPr>
        <p:spPr>
          <a:xfrm>
            <a:off x="8001000" y="45007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矩形 1"/>
          <p:cNvSpPr/>
          <p:nvPr/>
        </p:nvSpPr>
        <p:spPr>
          <a:xfrm>
            <a:off x="947880" y="880920"/>
            <a:ext cx="67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找玩具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2" descr="D:\我的文档-桌面-收藏夹\桌面\2457331_132113066873_2.jpg"/>
          <p:cNvPicPr/>
          <p:nvPr/>
        </p:nvPicPr>
        <p:blipFill>
          <a:blip r:embed="rId1"/>
          <a:srcRect l="0" t="36366" r="45463" b="36366"/>
          <a:stretch/>
        </p:blipFill>
        <p:spPr>
          <a:xfrm>
            <a:off x="785880" y="1714680"/>
            <a:ext cx="1714320" cy="8571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D:\我的文档-桌面-收藏夹\桌面\2457331_132113066873_2.jpg"/>
          <p:cNvPicPr/>
          <p:nvPr/>
        </p:nvPicPr>
        <p:blipFill>
          <a:blip r:embed="rId2"/>
          <a:srcRect l="34097" t="63646" r="34097" b="0"/>
          <a:stretch/>
        </p:blipFill>
        <p:spPr>
          <a:xfrm>
            <a:off x="321480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D:\我的文档-桌面-收藏夹\桌面\u=974092105,1253174289&amp;fm=21&amp;gp=0副本.png"/>
          <p:cNvPicPr/>
          <p:nvPr/>
        </p:nvPicPr>
        <p:blipFill>
          <a:blip r:embed="rId3"/>
          <a:stretch/>
        </p:blipFill>
        <p:spPr>
          <a:xfrm>
            <a:off x="4786200" y="1428840"/>
            <a:ext cx="1338480" cy="10652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D:\我的文档-桌面-收藏夹\桌面\u=3154193641,2019822691&amp;fm=21&amp;gp=0.jpg"/>
          <p:cNvPicPr/>
          <p:nvPr/>
        </p:nvPicPr>
        <p:blipFill>
          <a:blip r:embed="rId4"/>
          <a:stretch/>
        </p:blipFill>
        <p:spPr>
          <a:xfrm>
            <a:off x="7072200" y="13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80" name="矩形 8"/>
          <p:cNvSpPr/>
          <p:nvPr/>
        </p:nvSpPr>
        <p:spPr>
          <a:xfrm>
            <a:off x="1214280" y="2571840"/>
            <a:ext cx="785880" cy="4284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9"/>
          <p:cNvSpPr/>
          <p:nvPr/>
        </p:nvSpPr>
        <p:spPr>
          <a:xfrm>
            <a:off x="3357720" y="2571840"/>
            <a:ext cx="785520" cy="4284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10"/>
          <p:cNvSpPr/>
          <p:nvPr/>
        </p:nvSpPr>
        <p:spPr>
          <a:xfrm>
            <a:off x="5072040" y="2571840"/>
            <a:ext cx="785880" cy="4284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11"/>
          <p:cNvSpPr/>
          <p:nvPr/>
        </p:nvSpPr>
        <p:spPr>
          <a:xfrm>
            <a:off x="7286760" y="2571840"/>
            <a:ext cx="785520" cy="4284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6" descr="D:\我的文档-桌面-收藏夹\桌面\sy_20100802173248820039.jpg"/>
          <p:cNvPicPr/>
          <p:nvPr/>
        </p:nvPicPr>
        <p:blipFill>
          <a:blip r:embed="rId5"/>
          <a:srcRect l="12408" t="16319" r="68100" b="54397"/>
          <a:stretch/>
        </p:blipFill>
        <p:spPr>
          <a:xfrm>
            <a:off x="1071720" y="4214880"/>
            <a:ext cx="1000080" cy="1272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6" descr="D:\我的文档-桌面-收藏夹\桌面\sy_20100802173248820039.jpg"/>
          <p:cNvPicPr/>
          <p:nvPr/>
        </p:nvPicPr>
        <p:blipFill>
          <a:blip r:embed="rId6"/>
          <a:srcRect l="37223" t="18411" r="45057" b="54397"/>
          <a:stretch/>
        </p:blipFill>
        <p:spPr>
          <a:xfrm>
            <a:off x="3143160" y="42861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7" descr="D:\我的文档-桌面-收藏夹\桌面\sy_20100802173248820039.jpg"/>
          <p:cNvPicPr/>
          <p:nvPr/>
        </p:nvPicPr>
        <p:blipFill>
          <a:blip r:embed="rId7"/>
          <a:srcRect l="67042" t="17919" r="15250" b="50732"/>
          <a:stretch/>
        </p:blipFill>
        <p:spPr>
          <a:xfrm>
            <a:off x="5000760" y="421488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7" descr="D:\我的文档-桌面-收藏夹\桌面\sy_20100802173248820039.jpg"/>
          <p:cNvPicPr/>
          <p:nvPr/>
        </p:nvPicPr>
        <p:blipFill>
          <a:blip r:embed="rId8"/>
          <a:srcRect l="70839" t="55247" r="13986" b="16393"/>
          <a:stretch/>
        </p:blipFill>
        <p:spPr>
          <a:xfrm>
            <a:off x="7286760" y="4429080"/>
            <a:ext cx="766800" cy="1214640"/>
          </a:xfrm>
          <a:prstGeom prst="rect">
            <a:avLst/>
          </a:prstGeom>
          <a:ln w="0">
            <a:noFill/>
          </a:ln>
        </p:spPr>
      </p:pic>
      <p:sp>
        <p:nvSpPr>
          <p:cNvPr id="1088" name="矩形 16"/>
          <p:cNvSpPr/>
          <p:nvPr/>
        </p:nvSpPr>
        <p:spPr>
          <a:xfrm>
            <a:off x="1000080" y="5286240"/>
            <a:ext cx="1071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7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17"/>
          <p:cNvSpPr/>
          <p:nvPr/>
        </p:nvSpPr>
        <p:spPr>
          <a:xfrm>
            <a:off x="3143160" y="5286240"/>
            <a:ext cx="1071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3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18"/>
          <p:cNvSpPr/>
          <p:nvPr/>
        </p:nvSpPr>
        <p:spPr>
          <a:xfrm>
            <a:off x="4929120" y="5286240"/>
            <a:ext cx="1071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5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19"/>
          <p:cNvSpPr/>
          <p:nvPr/>
        </p:nvSpPr>
        <p:spPr>
          <a:xfrm>
            <a:off x="7143840" y="5286240"/>
            <a:ext cx="10713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4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直接连接符 21"/>
          <p:cNvSpPr/>
          <p:nvPr/>
        </p:nvSpPr>
        <p:spPr>
          <a:xfrm>
            <a:off x="1571760" y="3143160"/>
            <a:ext cx="3857400" cy="107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直接连接符 24"/>
          <p:cNvSpPr/>
          <p:nvPr/>
        </p:nvSpPr>
        <p:spPr>
          <a:xfrm>
            <a:off x="3714840" y="3143160"/>
            <a:ext cx="3857400" cy="107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直接连接符 25"/>
          <p:cNvSpPr/>
          <p:nvPr/>
        </p:nvSpPr>
        <p:spPr>
          <a:xfrm flipH="1">
            <a:off x="1714320" y="3143160"/>
            <a:ext cx="3786120" cy="10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直接连接符 28"/>
          <p:cNvSpPr/>
          <p:nvPr/>
        </p:nvSpPr>
        <p:spPr>
          <a:xfrm flipH="1">
            <a:off x="3928680" y="3142440"/>
            <a:ext cx="37861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97" name="圆角矩形 67" descr=""/>
            <p:cNvPicPr/>
            <p:nvPr/>
          </p:nvPicPr>
          <p:blipFill>
            <a:blip r:embed="rId9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99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7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1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7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73" descr=""/>
              <p:cNvPicPr/>
              <p:nvPr/>
            </p:nvPicPr>
            <p:blipFill>
              <a:blip r:embed="rId12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74" descr=""/>
              <p:cNvPicPr/>
              <p:nvPr/>
            </p:nvPicPr>
            <p:blipFill>
              <a:blip r:embed="rId13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75" descr=""/>
              <p:cNvPicPr/>
              <p:nvPr/>
            </p:nvPicPr>
            <p:blipFill>
              <a:blip r:embed="rId14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76" descr=""/>
              <p:cNvPicPr/>
              <p:nvPr/>
            </p:nvPicPr>
            <p:blipFill>
              <a:blip r:embed="rId15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40:13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